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77C4-0A01-4AA5-8173-3BEB2D4F1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7D65-C236-4F0A-A328-0EEBFB466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A05B-3FF6-44B9-9D00-89D1D1BA9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149A-84A0-428D-A9D0-8E9DD4ECE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C59-CE2C-4C30-B71A-5C09EBE6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666-2EA0-4E43-BF76-EA3EE0F1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1B2-0AD7-45E6-B9E4-E5F9D667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7E6-8AAB-4488-B997-1262BFD5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F5F-8EEE-475F-B408-BA7D62E8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652-076B-41A9-983F-78C8FD5A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637-8781-459F-BE10-5D6DE161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829-9A27-4E0F-B447-A048F38E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D83-429B-49CB-9EB1-DCE8A37A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238-1B8A-4E2E-9633-99CFCC61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085-055E-4D5C-84D9-0D8D9942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00E-165F-4D8A-AADC-E931EC99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C795-5681-4886-93A2-3B7B7D586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rena Chambers, to teach is to lea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rena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506760"/>
            <a:ext cx="1841400" cy="15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yvi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cinnati, 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y child, divor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ducation from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ed University of the Cumberla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Colleag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0" y="58672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h,Beth, Me,,Lind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5"/>
          <p:cNvSpPr/>
          <p:nvPr/>
        </p:nvSpPr>
        <p:spPr>
          <a:xfrm>
            <a:off x="1219320" y="586728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ty, Me, Ju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ul,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3"/>
          <p:cNvSpPr/>
          <p:nvPr/>
        </p:nvSpPr>
        <p:spPr>
          <a:xfrm>
            <a:off x="68580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,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na Chambers decides to go back to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1, 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7"/>
          <p:cNvSpPr/>
          <p:nvPr/>
        </p:nvSpPr>
        <p:spPr>
          <a:xfrm>
            <a:off x="2819520" y="3200400"/>
            <a:ext cx="4343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na Chambers received her Associates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6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na Chambers received her Bachelor’s Degree in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na Chambers lands first teaching job in Anderson Cou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na Chambers is hired at Elk Valle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1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na Chambers starts school for Master’s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9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8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7" name="Picture 40" descr="DSC00973.JPG"/>
          <p:cNvPicPr/>
          <p:nvPr/>
        </p:nvPicPr>
        <p:blipFill>
          <a:blip r:embed="rId5"/>
          <a:stretch/>
        </p:blipFill>
        <p:spPr>
          <a:xfrm>
            <a:off x="0" y="3808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2" descr="1954e6017168bc2a1314920214.jpg"/>
          <p:cNvPicPr/>
          <p:nvPr/>
        </p:nvPicPr>
        <p:blipFill>
          <a:blip r:embed="rId6"/>
          <a:stretch/>
        </p:blipFill>
        <p:spPr>
          <a:xfrm>
            <a:off x="1676520" y="251460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1954e6017168bc2a1314920214.jpg"/>
          <p:cNvPicPr/>
          <p:nvPr/>
        </p:nvPicPr>
        <p:blipFill>
          <a:blip r:embed="rId7"/>
          <a:stretch/>
        </p:blipFill>
        <p:spPr>
          <a:xfrm>
            <a:off x="1676520" y="320040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1954e6017168bc2a1314920214.jpg"/>
          <p:cNvPicPr/>
          <p:nvPr/>
        </p:nvPicPr>
        <p:blipFill>
          <a:blip r:embed="rId8"/>
          <a:stretch/>
        </p:blipFill>
        <p:spPr>
          <a:xfrm>
            <a:off x="1676520" y="3962520"/>
            <a:ext cx="914400" cy="533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5" descr="1954e6017168bc2a1314920214.jpg"/>
          <p:cNvPicPr/>
          <p:nvPr/>
        </p:nvPicPr>
        <p:blipFill>
          <a:blip r:embed="rId9"/>
          <a:stretch/>
        </p:blipFill>
        <p:spPr>
          <a:xfrm>
            <a:off x="1676520" y="4648320"/>
            <a:ext cx="914400" cy="53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6" descr="1954e6017168bc2a1314920214.jpg"/>
          <p:cNvPicPr/>
          <p:nvPr/>
        </p:nvPicPr>
        <p:blipFill>
          <a:blip r:embed="rId10"/>
          <a:stretch/>
        </p:blipFill>
        <p:spPr>
          <a:xfrm>
            <a:off x="1676520" y="525780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7" descr="1954e6017168bc2a1314920214.jpg"/>
          <p:cNvPicPr/>
          <p:nvPr/>
        </p:nvPicPr>
        <p:blipFill>
          <a:blip r:embed="rId11"/>
          <a:stretch/>
        </p:blipFill>
        <p:spPr>
          <a:xfrm>
            <a:off x="1676520" y="586728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8" descr="5984e601a86c8bb51314921094.jpg"/>
          <p:cNvPicPr/>
          <p:nvPr/>
        </p:nvPicPr>
        <p:blipFill>
          <a:blip r:embed="rId12"/>
          <a:stretch/>
        </p:blipFill>
        <p:spPr>
          <a:xfrm>
            <a:off x="152280" y="5334120"/>
            <a:ext cx="85896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9" descr="9744e601bf08ae361314921456.jpg"/>
          <p:cNvPicPr/>
          <p:nvPr/>
        </p:nvPicPr>
        <p:blipFill>
          <a:blip r:embed="rId13"/>
          <a:stretch/>
        </p:blipFill>
        <p:spPr>
          <a:xfrm>
            <a:off x="1066680" y="5334120"/>
            <a:ext cx="609840" cy="514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0" descr="8844e601cbb3b9711314921659.jpg"/>
          <p:cNvPicPr/>
          <p:nvPr/>
        </p:nvPicPr>
        <p:blipFill>
          <a:blip r:embed="rId14"/>
          <a:stretch/>
        </p:blipFill>
        <p:spPr>
          <a:xfrm>
            <a:off x="152280" y="6172200"/>
            <a:ext cx="685800" cy="487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1" descr="4374e601d7d4ad521314921853.jpg"/>
          <p:cNvPicPr/>
          <p:nvPr/>
        </p:nvPicPr>
        <p:blipFill>
          <a:blip r:embed="rId15"/>
          <a:stretch/>
        </p:blipFill>
        <p:spPr>
          <a:xfrm>
            <a:off x="838080" y="6324480"/>
            <a:ext cx="8384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rena Chambers is always striving to be a better teach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rena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S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152280" y="3400560"/>
            <a:ext cx="205740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y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cinnati, 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y child. Divorced for 18 ye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ducation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ed University of the Cumberla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152280" y="492444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2133720" y="1905120"/>
            <a:ext cx="31240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eptembe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ary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ating Paul for 8 year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2133720" y="3200400"/>
            <a:ext cx="44956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hurch involvement, shopping, and gardening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Real estate, cooking, and mus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Country, Bluegrass, and Gospel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ergeant York,  Sweet Home Alabama, Gone with the Wind, Th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ve Affair, most TCM movie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y Wives, Hawthrone, and The Dugg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Gone with the Wind, Cythina Rylant books ,Nory Ryan’s Song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alachian themes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iki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chambersl2@k12tn.net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Chambers21@tntech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4" descr="8694e601e60e17d91314922080.jpg"/>
          <p:cNvPicPr/>
          <p:nvPr/>
        </p:nvPicPr>
        <p:blipFill>
          <a:blip r:embed="rId1"/>
          <a:stretch/>
        </p:blipFill>
        <p:spPr>
          <a:xfrm>
            <a:off x="0" y="38088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7" descr="MM900356713.GIF"/>
          <p:cNvPicPr/>
          <p:nvPr/>
        </p:nvPicPr>
        <p:blipFill>
          <a:blip r:embed="rId2"/>
          <a:stretch/>
        </p:blipFill>
        <p:spPr>
          <a:xfrm>
            <a:off x="7315200" y="533520"/>
            <a:ext cx="12700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rena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685800" y="1523880"/>
            <a:ext cx="19810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family and frien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6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rena Chambers is always striving to be a better teach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6" descr="9514e60230f562bc1314923279.jpg"/>
          <p:cNvPicPr/>
          <p:nvPr/>
        </p:nvPicPr>
        <p:blipFill>
          <a:blip r:embed="rId1"/>
          <a:stretch/>
        </p:blipFill>
        <p:spPr>
          <a:xfrm>
            <a:off x="457200" y="1981080"/>
            <a:ext cx="1295280" cy="838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5254e6023e086fcd1314923488.jpg"/>
          <p:cNvPicPr/>
          <p:nvPr/>
        </p:nvPicPr>
        <p:blipFill>
          <a:blip r:embed="rId2"/>
          <a:stretch/>
        </p:blipFill>
        <p:spPr>
          <a:xfrm>
            <a:off x="2057400" y="1981080"/>
            <a:ext cx="1295280" cy="838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" descr="0604e6024b99b70a1314923705.jpg"/>
          <p:cNvPicPr/>
          <p:nvPr/>
        </p:nvPicPr>
        <p:blipFill>
          <a:blip r:embed="rId3"/>
          <a:stretch/>
        </p:blipFill>
        <p:spPr>
          <a:xfrm>
            <a:off x="3505320" y="198108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5524e60250a9af881314923786.jpg"/>
          <p:cNvPicPr/>
          <p:nvPr/>
        </p:nvPicPr>
        <p:blipFill>
          <a:blip r:embed="rId4"/>
          <a:stretch/>
        </p:blipFill>
        <p:spPr>
          <a:xfrm>
            <a:off x="533520" y="388620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2344e60263bb7faf1314924091.jpg"/>
          <p:cNvPicPr/>
          <p:nvPr/>
        </p:nvPicPr>
        <p:blipFill>
          <a:blip r:embed="rId5"/>
          <a:stretch/>
        </p:blipFill>
        <p:spPr>
          <a:xfrm>
            <a:off x="2057400" y="3657600"/>
            <a:ext cx="1981080" cy="1333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2504e6027025dece1314924290.jpg"/>
          <p:cNvPicPr/>
          <p:nvPr/>
        </p:nvPicPr>
        <p:blipFill>
          <a:blip r:embed="rId6"/>
          <a:stretch/>
        </p:blipFill>
        <p:spPr>
          <a:xfrm>
            <a:off x="4343400" y="3581280"/>
            <a:ext cx="1981080" cy="1447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2"/>
          <p:cNvSpPr/>
          <p:nvPr/>
        </p:nvSpPr>
        <p:spPr>
          <a:xfrm>
            <a:off x="304920" y="2895480"/>
            <a:ext cx="441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ool teachers                      Micheal Combs &amp;                Me at Tita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Elk Valley                                   Aunt June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3"/>
          <p:cNvSpPr/>
          <p:nvPr/>
        </p:nvSpPr>
        <p:spPr>
          <a:xfrm>
            <a:off x="533520" y="5105520"/>
            <a:ext cx="56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ul &amp; Me                           Mom at Christmas                                            Snow day at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23:27:46Z</dcterms:created>
  <dc:creator>FriscoISD</dc:creator>
  <dc:description/>
  <dc:language>en-US</dc:language>
  <cp:lastModifiedBy>Lorena Chambers</cp:lastModifiedBy>
  <dcterms:modified xsi:type="dcterms:W3CDTF">2011-09-02T00:50:43Z</dcterms:modified>
  <cp:revision>77</cp:revision>
  <dc:subject/>
  <dc:title>Profile</dc:title>
</cp:coreProperties>
</file>